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079328"/>
        <c:axId val="36009146"/>
      </c:barChart>
      <c:catAx>
        <c:axId val="16079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09146"/>
        <c:crosses val="autoZero"/>
        <c:auto val="1"/>
        <c:lblAlgn val="ctr"/>
        <c:lblOffset val="100"/>
        <c:noMultiLvlLbl val="0"/>
      </c:catAx>
      <c:valAx>
        <c:axId val="36009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079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EE12-7EC3-4938-81E7-1682A27D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F5BB-7C62-4128-B9B2-002203F3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C735-DE78-4666-84A3-4C6CCDAA9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54D8-C6D9-4905-8851-F358F657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F157-276E-4FBF-811F-7F7472EC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753C-2FF5-4ED7-A645-4E04F028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34C-D23F-4B23-9607-36940AE9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2D10-F967-4CCA-BC45-66A83098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4DF-B1F5-488E-A4D5-EFF18A9E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3AC-CA23-4C7A-B7C5-1D164C83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10C-1176-4F53-B9EC-DEDB811F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C2C-4871-4B13-AE47-2043C3A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A9E4B-41C7-4EB9-8EA2-FE67DC4B87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